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573-482A-48B7-904B-FC9FE1C4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862-F935-4A55-B1F0-A3E7BA69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540-1971-4288-93FA-3E10A508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733-2E53-4515-AE13-A2B50F22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EF90-2333-4C07-AD32-250F2F4E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1AC4-90B5-42CA-90DC-5697D98B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15D8-C401-4F84-94C1-A0521441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C01C-DE61-45F7-98B4-736244B9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30A1-FD64-4A77-B829-82F48E70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3F2D-B76E-47CB-A8CE-6B74780B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3110-C4D8-4977-B98D-67F8C36C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7EE-E898-49D5-A783-7780EAAE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7637-FF9D-4260-B238-E0325C4F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6626-1E3F-4BE4-983D-18F96AD9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E321-34FF-4178-8CCF-823E6687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D4BE-D52C-4CE0-8E2B-239188C5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46A2-ADFC-4D9F-9BE4-95BF8F37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6EF-CFD6-4B77-A485-C6DA8C85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BC5-9313-4089-90A5-A49C03CE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869-8EA8-4CC1-AE3B-609AFB03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79E-04DA-45E0-A93C-A9E4F657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D0D-6E36-4400-922E-28693A09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DC5-6D98-4D69-8BA7-8041C7CA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696-AD72-42FE-9CCD-BCE87E41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4AB5-3624-4BF8-B248-3961B410C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A9CF-AA31-4261-B3CA-6776D97BE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660640"/>
            <a:ext cx="381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DjNico</cp:lastModifiedBy>
  <dcterms:modified xsi:type="dcterms:W3CDTF">2004-03-21T20:38:37Z</dcterms:modified>
  <cp:revision>17</cp:revision>
  <dc:subject>Evaluación de Proyectos</dc:subject>
  <dc:title>Auxiliar Nº 2</dc:title>
</cp:coreProperties>
</file>